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6BC-25F0-4FE3-B7E6-AF34BEEB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60D-8518-4F85-8CA9-A7EBBCA4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970-C067-458A-9AD2-AF8BE5B4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BEF-8060-49AF-A8D9-58862113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F5DE-919B-4C48-AEF8-247387A2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3238-43A8-41B4-8C5D-FAB286ED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68E0-EBB3-40A2-B194-E9246E93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5601-3241-4EEA-8068-F5917D23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FF3C-7FDC-47CF-B2EB-B78A7A9B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11BB-D311-43D0-82B3-09D4681F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05E0-B4BF-4471-A1D5-F5221DE9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714-10A6-42BF-A0A3-B51666A0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C878-F25B-4F3B-9A7A-95F6D267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00B1-7940-41E7-957D-8D0AB3D7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E5F7-7489-47A7-9FD6-D0A13093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2082-6F3D-4687-96D2-147C669F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7AF9-334F-4D9F-B951-F2AB30BE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ED1-4461-4703-BD15-07278354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35C-C70D-4E5C-B181-1F636068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E04-D2FE-47C5-8320-6ED6CCE6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BEF-074D-46AE-803B-69F31703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A89-49D0-4EBB-9B0D-1E54B36D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E27-3539-4A37-ACAB-8EAA4DD5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8AE-1BCD-45D6-A4CC-A3B5D48C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A1E8-848E-4D3F-A045-38A2EAF8AF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F7B7-2C3B-4DCB-BCBD-CC514CFC01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3-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 311 Peri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(in degrees Kelvin) is directly proportional to the kinetic energy of the particles of the sub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 theory states gases are made of particles with kinetic en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ribution curve shows that the particles tend towards an average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is directly related to that a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Kinetic Energy: the energy an object has because of its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Kinetic Theory: all matter consists of tiny particles in constant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4038480" cy="269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762120" y="609480"/>
            <a:ext cx="7467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cript MT Bold"/>
              </a:rPr>
              <a:t>Kinetic Energy &amp; The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120" y="2133720"/>
            <a:ext cx="403884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Kinetic energy of liquids allows particles to flow past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form to shape of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816520" y="2133720"/>
            <a:ext cx="2860920" cy="4305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362320" y="533520"/>
            <a:ext cx="3504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cript MT Bold"/>
              </a:rPr>
              <a:t>Liquid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5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articles of liquids are attracted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icles of gases are not = spread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ee picture pg 39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680" y="457200"/>
            <a:ext cx="7162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cript MT Bold"/>
              </a:rPr>
              <a:t>Particle Attrac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3520" y="2592360"/>
            <a:ext cx="396216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ecause of the attraction, the volumes of liquids barely change- even when pressur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038840" cy="3200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609480" y="609480"/>
            <a:ext cx="8077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cript MT Bold"/>
              </a:rPr>
              <a:t>Condensed State of Mat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5715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Kinetic Theory – all objects have energy due to their mo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en a liquid converts to a gas/vapor, it is called vap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uring evaporation, only those molecules which have a certain minimum kinetic energy can escape from the surface of the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eating a liquid increases the average kinetic energy of the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ttractive forces keep a liquid in tha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vaporation cools the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eat adds energy, enabling particles to overcome the attractive fo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Vapor In a Closed Sp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 is reached when the number of particles vaporizing and the number of particles condensing are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por pres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easure of gas force exerted above a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Vaporiz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905120"/>
            <a:ext cx="2895480" cy="137160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Liqui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5029200"/>
            <a:ext cx="2895480" cy="13716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Vapor (Ga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2819520"/>
            <a:ext cx="236232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124080" y="3657600"/>
            <a:ext cx="228600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4724280"/>
            <a:ext cx="2666880" cy="105732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Cond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2362320"/>
            <a:ext cx="2666880" cy="105732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6767ff"/>
                </a:solidFill>
                <a:latin typeface="Rage Italic"/>
              </a:rPr>
              <a:t>Kinetic Theor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Georgia"/>
              </a:rPr>
              <a:t>All mater consists of tiny particles that are in constant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Georgia"/>
              </a:rPr>
              <a:t>Specifically, the particles in gas are considered to be small hard spheres with an insignificant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Georgia"/>
              </a:rPr>
              <a:t>The particles in gas are spread out leaving a lot of ope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9528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52578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8006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85357E-008 L 0 0.11121 E">
                                      <p:cBhvr>
                                        <p:cTn id="4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7062E-006 L 0.1125 -0.06117 E">
                                      <p:cBhvr>
                                        <p:cTn id="4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91196E-006 L -0.12917 -0.06117 E">
                                      <p:cBhvr>
                                        <p:cTn id="4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ometer- device to measure vapor pres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315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Boiling Poin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erature at which the vapor pressure of the liquid is equal to the outside air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en particles have enough kinetic energy to form gas and evapo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assification of States of Matter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active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ases have no attraction to each o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quid have some level of attraction, but not as strong as that of sol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lids have the strongest attraction between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assification of States of Matter (cont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ases take up little space in a closed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cause they have no attraction to each ot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quids have definite siz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cause the attraction is great enough to keep them toget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th gases and liquids are fluid because their relative lack of attraction allows their molecules to move free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lids are in “fixed” posi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can be found in crystalline or non-crystalline for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fference of crystal from non-cryst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stals have a internal structure, meaning that the atoms are bonded in a specific way, whereas in non-crystals such as glass, there is no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blim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in which a solid changes to a gas or vapor without passing through the liquid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286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es Sublimation Happ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limation happens because solids and liquids have vapor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limation occurs in solids with vapor pressures that exceed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iple Poi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int on a phase diagram that represents the only set of conditions at which all three phases exist in equilibrium with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ase diagram gives the conditions of temperature and pressure at which a substance exists as solid, liquid and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095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a is also known as ionized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trip electrons from atoms and they float around freely in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395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6767ff"/>
                </a:solidFill>
                <a:latin typeface="Rage Italic"/>
              </a:rPr>
              <a:t>Gas Particle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7ff"/>
                </a:solidFill>
                <a:latin typeface="Times New Roman"/>
              </a:rPr>
              <a:t>The motion of particles in a gas is rapid, constant, and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7ff"/>
                </a:solidFill>
                <a:latin typeface="Times New Roman"/>
              </a:rPr>
              <a:t>As a result gases will always spread out and fill the area they are contain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7ff"/>
                </a:solidFill>
                <a:latin typeface="Times New Roman"/>
              </a:rPr>
              <a:t>The particles travel in a straight line but change course after collisions with other gas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7ff"/>
                </a:solidFill>
                <a:latin typeface="Times New Roman"/>
              </a:rPr>
              <a:t>During collisions kinetic energy is transferred from one particle to the other without loss as the collisions are characterized as 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270504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inetic Theory of Ga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as is composed of a large number of molecules that are very small relative to the distance between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lecules of a gas are in constant, random motion and frequently collide with each other and with their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24560" y="1752480"/>
            <a:ext cx="361944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as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pressure is the result of simultaneous collisions of rapidly moving particles in a gas with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mpty space with no particles (and thus no pressure) is called a vacu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90920" y="3886200"/>
            <a:ext cx="38862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tmospheric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ospheric pressure results from the collision of atoms and molecules in the air with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decreases as altitude increases because the density of the atmosphere decreases with elev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weather also affect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4578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asuring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unit for pressure is the pascal (Pa). Other units include mm Hg and at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atmospheric pressure is about 100,000Pa (100kP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ospheric pressure is measured by a baro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343560" y="1066680"/>
            <a:ext cx="2571840" cy="389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43200" y="54864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ight of the mercury in the column depends on the amount of atmospheric pressure being exerted on the surface of the mercury in the reservoi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876920" y="4419360"/>
            <a:ext cx="13716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inetic Theo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atter consists of tiny particles that are in constant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ticle has its own kinetic energy (read: spe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stribution Cur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 energies of particles, when graphed, show that more particles are closer to the average kinetic energy with less particles near the extre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1:44:39Z</dcterms:created>
  <dc:creator>udsd</dc:creator>
  <dc:description/>
  <dc:language>en-US</dc:language>
  <cp:lastModifiedBy>udsd</cp:lastModifiedBy>
  <dcterms:modified xsi:type="dcterms:W3CDTF">2010-04-12T11:53:50Z</dcterms:modified>
  <cp:revision>1</cp:revision>
  <dc:subject/>
  <dc:title>Chapter 13-States of Matter</dc:title>
</cp:coreProperties>
</file>